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7C25-6EC8-429D-A6FE-96DBE5DE1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C165-241A-4396-8499-572171176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602F-58BC-416F-907E-AE552C7F5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13A-B818-40D2-8F44-F9A4E133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9160-D4CB-411A-9B68-A260866C5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04A-1494-440D-9621-3825619A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D5F-5666-4019-84D3-6A21A69C0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A22B-BCB9-482E-897E-D531D4E8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53CC-D27C-4DB4-8470-465D44035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54F-9067-482A-8899-0A5CFA67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5DD-824A-4235-A92B-451F083A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9301-6818-42B4-A9BB-8AE4F919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C8C-E965-4156-B788-CE7C9F57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4579-31D0-4ED8-BE96-B280BAD9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A91F-0F91-4702-BDF0-28099E3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E057-DA7D-4D41-B5A1-59F5036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1EE8-D5AC-4C6B-8B4D-80CC0F20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2A8B-5CED-4AD9-9ACC-B7E6A8B0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D32-3ECA-4C31-8DDF-025A58B3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743-E8A3-4491-A608-AACF1D6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46A-5894-4B9C-86BD-8F89FE3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D27-1597-4BAF-A752-D451246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2E0D-2F35-43D2-81BF-CB95A117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E80A-E380-4301-B9D3-D2CBF62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3990-4936-48B5-939B-44AADB66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676-1761-4F59-ADAA-3D5FCE23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4CE-F85F-4C5F-9E67-44126694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4E2-E270-4AB6-A9EA-B7962B97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EB9-BC65-4996-BBE9-520D081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506-291F-4D8B-A829-327015F7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029-91B8-4B6A-95E2-ADF5885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D84-915D-481C-90B9-7D94CDAD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B58-7615-4203-A669-D8C5B38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8760" y="-4680"/>
                <a:ext cx="973080" cy="6832800"/>
              </a:xfrm>
              <a:custGeom>
                <a:avLst/>
                <a:gdLst>
                  <a:gd name="textAreaLeft" fmla="*/ -360 w 973080"/>
                  <a:gd name="textAreaRight" fmla="*/ 973080 w 97308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4440" y="1697040"/>
                <a:ext cx="973440" cy="500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78720"/>
                <a:ext cx="973440" cy="5029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42920"/>
                <a:ext cx="973440" cy="302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4440" y="989640"/>
                <a:ext cx="973440" cy="3481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6240" y="676800"/>
                <a:ext cx="973440" cy="4327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7320" y="369360"/>
                <a:ext cx="986040" cy="37548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8960" y="3926880"/>
                <a:ext cx="973440" cy="4993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6880" y="3536640"/>
                <a:ext cx="973440" cy="500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6880" y="2397600"/>
                <a:ext cx="973440" cy="30420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6880" y="3227400"/>
                <a:ext cx="973440" cy="34704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6880" y="2931480"/>
                <a:ext cx="973440" cy="42768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6520" y="2614320"/>
                <a:ext cx="986040" cy="37584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0080"/>
                <a:ext cx="973440" cy="4993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6880" y="4542480"/>
                <a:ext cx="973440" cy="5029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8960" y="5649840"/>
                <a:ext cx="973440" cy="3031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2720"/>
                <a:ext cx="345960" cy="974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2000"/>
                <a:ext cx="973440" cy="42804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9160"/>
                <a:ext cx="986040" cy="37584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27C9-091D-4BE3-A5A0-39F219498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160"/>
                <a:ext cx="987480" cy="9118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800"/>
                <a:ext cx="987480" cy="6681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708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8640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96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960"/>
                <a:ext cx="987480" cy="574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45360"/>
                <a:ext cx="1000080" cy="4996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8920" y="2642040"/>
                <a:ext cx="987120" cy="6678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916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520" y="2778120"/>
                <a:ext cx="987480" cy="404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104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30240"/>
                <a:ext cx="1000080" cy="50112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4080" y="2648160"/>
                <a:ext cx="987480" cy="667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708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1280" y="2777040"/>
                <a:ext cx="987120" cy="40428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8892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7480" y="2689560"/>
                <a:ext cx="987120" cy="57276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880"/>
                <a:ext cx="1000080" cy="5014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733F-A3DC-44FE-A4F7-F145564BB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Extremes of </a:t>
            </a:r>
            <a:br>
              <a:rPr sz="7200"/>
            </a:b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 Intellige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. Down Syndr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42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extra genetic material in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,000 people in U.S. currently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 800-1000 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of mother plays a r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25:     1 in 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40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 in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chromosomes"/>
          <p:cNvPicPr/>
          <p:nvPr/>
        </p:nvPicPr>
        <p:blipFill>
          <a:blip r:embed="rId1"/>
          <a:stretch/>
        </p:blipFill>
        <p:spPr>
          <a:xfrm>
            <a:off x="1905120" y="3733920"/>
            <a:ext cx="5638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hysical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2880" y="1523880"/>
            <a:ext cx="484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 muscle t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at facial profile, a somewhat depressed nasal bridge and a small n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lique palpebral fissures, an upward slant to the e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abnormal shape of the 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single deep crease across the center of the pal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perflexibility, an excessive ability to extend the j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splastic middle phalanx of the fifth finger, fifth finger has one flexion furrow instead of tw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picanthal folds, small skin folds on the inner corner of the e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cessive space between large and second to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largement of tongue in relationship to size of mou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d"/>
          <p:cNvPicPr/>
          <p:nvPr/>
        </p:nvPicPr>
        <p:blipFill>
          <a:blip r:embed="rId1"/>
          <a:stretch/>
        </p:blipFill>
        <p:spPr>
          <a:xfrm>
            <a:off x="6172200" y="1447920"/>
            <a:ext cx="243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gnitive A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evelopmental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t physical, speech, and developmental therapie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 can be in mainstream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971640" y="2282760"/>
            <a:ext cx="2914560" cy="2293920"/>
            <a:chOff x="971640" y="2282760"/>
            <a:chExt cx="2914560" cy="2293920"/>
          </a:xfrm>
        </p:grpSpPr>
        <p:sp>
          <p:nvSpPr>
            <p:cNvPr id="163" name="Rectangle 9"/>
            <p:cNvSpPr/>
            <p:nvPr/>
          </p:nvSpPr>
          <p:spPr>
            <a:xfrm>
              <a:off x="971640" y="2282760"/>
              <a:ext cx="2914560" cy="22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8"/>
            <p:cNvGrpSpPr/>
            <p:nvPr/>
          </p:nvGrpSpPr>
          <p:grpSpPr>
            <a:xfrm>
              <a:off x="971640" y="2282760"/>
              <a:ext cx="2914560" cy="2293920"/>
              <a:chOff x="971640" y="2282760"/>
              <a:chExt cx="2914560" cy="2293920"/>
            </a:xfrm>
          </p:grpSpPr>
          <p:sp>
            <p:nvSpPr>
              <p:cNvPr id="165" name="Rectangle 5"/>
              <p:cNvSpPr/>
              <p:nvPr/>
            </p:nvSpPr>
            <p:spPr>
              <a:xfrm>
                <a:off x="971640" y="2282760"/>
                <a:ext cx="208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6"/>
              <p:cNvSpPr/>
              <p:nvPr/>
            </p:nvSpPr>
            <p:spPr>
              <a:xfrm>
                <a:off x="971640" y="2282760"/>
                <a:ext cx="2914560" cy="229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-68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32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 </a:t>
                </a:r>
                <a:r>
                  <a:rPr b="1" lang="en-US" sz="20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                   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Picture 7" descr="adam"/>
          <p:cNvPicPr/>
          <p:nvPr/>
        </p:nvPicPr>
        <p:blipFill>
          <a:blip r:embed="rId1"/>
          <a:stretch/>
        </p:blipFill>
        <p:spPr>
          <a:xfrm>
            <a:off x="1447920" y="1905120"/>
            <a:ext cx="2361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llectual Disabil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intellectual and behavioral extreme of the populatio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fted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al mental abilities, upper extreme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Only 5%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2% of population has IQ over 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ote: Intellectual Disability is the new term for “Mental Retard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dentifying the Gifted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Matter- High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qu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es Across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s Grey Rather than Black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ight about Aesthetic Awareness and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ure Sense of 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joys Language a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ed- Can Stick with or Beat an Interest or Issue to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Source-Jim Lo Giudice; Bucks County 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Giftedness—Positive Behavi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288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s ideas and feeling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ove at a rapid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onscien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learn, explore and seek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tead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35400" y="1447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broad knowledge and an extensive store of vicarious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nsitive to the feelings and right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riginal contributions to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relationships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Giftedness—Negative Behavi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ib, making fluent statements based on little or no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struggle agains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impatient to proceed to the nex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come bored by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35040" y="1981080"/>
            <a:ext cx="400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use humor to manip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dominate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frustrated by apparent lack of relevance or logic in dail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Verdana"/>
              </a:rPr>
              <a:t>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Swassing, Raymo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Verdana"/>
              </a:rPr>
              <a:t>Teaching Gifted Children and Adolescents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;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ild: 70-55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potential to learn basic cognitive and vocati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somewhat independently i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70-85 IQ is not Intellectual Disability, but rather “borderline” intellectual functi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Moderate: 55-40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learn only limited language usage and self-help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very simple vocati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lot of help in dail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Severe: 40-25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stage, assessment of level is made from behavior instead of IQ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est minimum of ability to learn an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ferred to as “custodial” because they require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Profound: Below 25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riteria for Intellectual Disability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sub-average intellectual functioning (assessed by IQ test &lt;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mpairment of adaptive behaviors (self-help ski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fficulty functioning in everyda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prior to age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due to brain injury or adult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8:45:31Z</dcterms:created>
  <dc:creator>amiller</dc:creator>
  <dc:description/>
  <dc:language>en-US</dc:language>
  <cp:lastModifiedBy>John Hampton</cp:lastModifiedBy>
  <dcterms:modified xsi:type="dcterms:W3CDTF">2012-03-02T16:49:05Z</dcterms:modified>
  <cp:revision>7</cp:revision>
  <dc:subject/>
  <dc:title>     Extremes of    Intelligence</dc:title>
</cp:coreProperties>
</file>